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BF4-CFCC-4749-BE85-246EC0A7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ED8-D4A6-4C73-8A07-6F62C7C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3DE-E2B9-4FD7-8F50-47B2F52B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0EB-ECE3-447B-A147-D361D13F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500-E399-4E31-A3BB-950D8D66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67E-33FF-4DC8-B97E-80D5E67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09F-0832-492F-8907-6A4E6BA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575-D5A3-417D-950B-3AD4502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30C-1F8E-4832-868C-538E7536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F1D-A0FF-4C44-BC04-0C0FDD1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747-703D-4430-98C7-517A414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4A-6769-4282-8895-41FCC07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045-42CE-4DF8-AE4E-4ACA30E4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esque1_med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42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3657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َ يا روح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سكن فينا للدو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حياةُ قلبِ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ِّسنا لِنَتَّحِد ب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م تعال يا أبَ الفق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ضرمنا بنار حبِّ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9:23Z</dcterms:modified>
  <cp:revision>10</cp:revision>
  <dc:subject/>
  <dc:title>PowerPoint Presentation</dc:title>
</cp:coreProperties>
</file>